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093B2-E903-43C7-93F4-2A44AB984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0AFCE58-274D-4B1D-BFCD-5AC0AF0BB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97D8BB7-0405-47CD-BF3E-FF8370E682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30D2973-AEC9-49F8-ABF9-BB8F2FAB5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2F68E-6D61-4560-A913-2EBD7FDB11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631BC35-86BB-4A42-93D5-AE5490E8AA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51B0DE3-FA57-4B53-BD19-D1D69D21E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CA22118-D8A0-4F53-A9B6-DAB78238F1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6735CA36-1BA2-4207-924E-ECC86113E4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0423452-FD94-47D3-B6DD-229DB59A9C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EFF0575-88F4-47C7-BCD8-CA91DDE019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129C39A-8DE1-4519-856C-0E5E5D087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4878099-1306-42AF-9E30-4CA93EF529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67E7085-3F4A-4B4D-AED2-0A0B270F6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821963D-F005-4A9F-B5FA-D51801FC51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310DB59-A6B5-4908-A126-7383753BB9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2357181-CDB7-4471-ACBA-38188250B7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612F1B-D7E4-49E1-A305-64E8FC3FD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5D3B199-538C-452D-A18E-CF473908F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730AF3AD-C685-4314-9909-37EF6ED22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B0B9F1B-5A3B-4BAB-8FBF-4C79B01C63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01128F7-CEFF-435A-AAAE-C7E11826A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8A3A11A-015A-4147-8CD9-D430E2D7F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345ECE1-E352-4370-93AF-29C46D6B07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2354-A1EB-41DB-A537-CD3A242DA87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6C19-EE1B-4915-BE13-219F8694605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bighugelabs.com/flickr/map.php"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7640" y="404280"/>
            <a:ext cx="5761080" cy="1584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Industry</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826560" y="1773360"/>
            <a:ext cx="7705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ast time we look at </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how the kind of factories in the UK have changed</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why they are situated where they are</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This time we are going to see where they have gone and why.</a:t>
            </a:r>
            <a:endParaRPr b="1" lang="en-US" sz="3200" spc="-1" strike="noStrike">
              <a:solidFill>
                <a:srgbClr val="006699"/>
              </a:solidFill>
              <a:latin typeface="Comic Sans MS"/>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BD72725-EBB3-4BCC-BF79-3F9F2755B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99"/>
                </a:solidFill>
                <a:latin typeface="Comic Sans MS"/>
              </a:rPr>
              <a:t>ADVANTAGES OF RAPID INDUSTRIAL GROW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 More money was invested in the infrastructure, improving road networks and airport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 The success of industrialisation and the development of South Korea's industries, led to South Korean TNCs (e.g. Samsung) investing in places such as the USA</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i) South Korea became the leading producer of shipbuilding (due to low labour costs / modern ship building yar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ii) The South Korean car industry flourished, with companies such as Hyndai and Kia linking with industries in the USA / Japan and the companies have also invested in LEDC countri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844270D-7CF8-4A35-90ED-9312D6E157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DISADVANTAGES OF RAPID INDUSTRIAL GROW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SOCIAL PROBLE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equal pay (women and immigrants paid only 50-75% the wages paid to men), sweat shop working conditions for some and an increase in child labour</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orking very long hours (an average of 52 hours a week)</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creased rural-urban migration (the most innovative began moving away from the countryside into the nearby cities for work)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A7A24EF-975C-4A36-993D-AACC9092F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Comic Sans MS"/>
              </a:rPr>
              <a:t>DISADVANTAGES OF RAPID INDUSTRIAL GROWTH:</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ENVIRONMENTAL PROBLEM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ise, air and water pollution increased due to the rapid industrialisation</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increase in factories led to smog over citi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creased traffic volumes led to taxes on road use in the capital, Seou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0EE2CD9-A19F-440B-8EAB-A6DE065E5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Comic Sans MS"/>
              </a:rPr>
              <a:t>DISADVANTAGES OF RAPID INDUSTRIAL GROWTH:</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ENVIRONMENTAL PROBLEM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some areas which experienced an increase in population, services such as sewage treatment were not able to cop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all building and development was to a high standar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464B2B4-30B4-4E83-9AEF-C6B4DD3D1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The Sampoong Department Store collapsed on June 29, 1995</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What happen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iginally planned as an office block, part way through construction, the owner decided to make it into a department sto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 that several of the main structures were removed to allow for escalators and 5</a:t>
            </a:r>
            <a:r>
              <a:rPr b="0" lang="en-US" sz="2800" spc="-1" strike="noStrike" baseline="30000">
                <a:solidFill>
                  <a:srgbClr val="006699"/>
                </a:solidFill>
                <a:latin typeface="Comic Sans MS"/>
              </a:rPr>
              <a:t>th</a:t>
            </a:r>
            <a:r>
              <a:rPr b="0" lang="en-US" sz="2800" spc="-1" strike="noStrike">
                <a:solidFill>
                  <a:srgbClr val="006699"/>
                </a:solidFill>
                <a:latin typeface="Comic Sans MS"/>
              </a:rPr>
              <a:t> floor was added, with no additional safety features to take the extra loa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opened in 1990, attracting 40,000 people a day throughout its 5 year lif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775DF39-9AD7-4F92-AD07-6BF9B5FFF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The Sampoong Department Store collapsed on June 29, 1995 – 502 died</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What happened then?</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pril 1995 cracks began to appear in the ceiling of the 5</a:t>
            </a:r>
            <a:r>
              <a:rPr b="0" lang="en-US" sz="2400" spc="-1" strike="noStrike" baseline="30000">
                <a:solidFill>
                  <a:srgbClr val="006699"/>
                </a:solidFill>
                <a:latin typeface="Comic Sans MS"/>
              </a:rPr>
              <a:t>th</a:t>
            </a:r>
            <a:r>
              <a:rPr b="0" lang="en-US" sz="2400" spc="-1" strike="noStrike">
                <a:solidFill>
                  <a:srgbClr val="006699"/>
                </a:solidFill>
                <a:latin typeface="Comic Sans MS"/>
              </a:rPr>
              <a:t> floor. The owners moved merchandise and stores to the basement but not other action was taken.</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end of June the cracks quickly became much worse and the top floor was shut. The air-conditioning began to make loud noises – so it was shut off so as not to frighten the customer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5pm, the ceiling of the 4</a:t>
            </a:r>
            <a:r>
              <a:rPr b="0" lang="en-US" sz="2400" spc="-1" strike="noStrike" baseline="30000">
                <a:solidFill>
                  <a:srgbClr val="006699"/>
                </a:solidFill>
                <a:latin typeface="Comic Sans MS"/>
              </a:rPr>
              <a:t>th</a:t>
            </a:r>
            <a:r>
              <a:rPr b="0" lang="en-US" sz="2400" spc="-1" strike="noStrike">
                <a:solidFill>
                  <a:srgbClr val="006699"/>
                </a:solidFill>
                <a:latin typeface="Comic Sans MS"/>
              </a:rPr>
              <a:t> floor began to sink so customers were barred from entry to it but no evacuation alarm was sounded until 5.30, 2 minutes before the whole of one wing collapsed like a pack of cards, trapping 1500 and killing 502.</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766241C-D5C8-4A09-9BB8-7187F6BE00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DISADVANTAGES OF RAPID INDUSTRIAL GROWTH:</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ECONOMIC PROBLEM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re was a downturn in World Trade in 1997, many S Korean banks faced huge debts / bankruptc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again faced with an industrial slowdown, as the US and Europe cut back on imports – this is major danger for any country that is highly dependent on expor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C9A5AD9-C261-44C7-8F04-33BFC5771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ad the passage below, about Sao Paulo</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e colour to highlight the </a:t>
            </a:r>
            <a:r>
              <a:rPr b="1" lang="en-US" sz="2400" spc="-1" strike="noStrike">
                <a:solidFill>
                  <a:srgbClr val="008000"/>
                </a:solidFill>
                <a:latin typeface="Comic Sans MS"/>
              </a:rPr>
              <a:t>Causes </a:t>
            </a:r>
            <a:r>
              <a:rPr b="0" lang="en-US" sz="2400" spc="-1" strike="noStrike">
                <a:solidFill>
                  <a:srgbClr val="006699"/>
                </a:solidFill>
                <a:latin typeface="Comic Sans MS"/>
              </a:rPr>
              <a:t>and </a:t>
            </a:r>
            <a:r>
              <a:rPr b="1" lang="en-US" sz="2400" spc="-1" strike="noStrike">
                <a:solidFill>
                  <a:srgbClr val="0000ff"/>
                </a:solidFill>
                <a:latin typeface="Comic Sans MS"/>
              </a:rPr>
              <a:t>Consequences</a:t>
            </a:r>
            <a:r>
              <a:rPr b="0" lang="en-US" sz="2400" spc="-1" strike="noStrike">
                <a:solidFill>
                  <a:srgbClr val="006699"/>
                </a:solidFill>
                <a:latin typeface="Comic Sans MS"/>
              </a:rPr>
              <a:t> and </a:t>
            </a:r>
            <a:r>
              <a:rPr b="1" lang="en-US" sz="2400" spc="-1" strike="noStrike">
                <a:solidFill>
                  <a:srgbClr val="ff0000"/>
                </a:solidFill>
                <a:latin typeface="Comic Sans MS"/>
              </a:rPr>
              <a:t>the A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can be </a:t>
            </a:r>
            <a:r>
              <a:rPr b="1" lang="en-US" sz="2400" spc="-1" strike="noStrike">
                <a:solidFill>
                  <a:srgbClr val="0000ff"/>
                </a:solidFill>
                <a:latin typeface="Comic Sans MS"/>
              </a:rPr>
              <a:t>consequences</a:t>
            </a:r>
            <a:r>
              <a:rPr b="0" lang="en-US" sz="2400" spc="-1" strike="noStrike">
                <a:solidFill>
                  <a:srgbClr val="006699"/>
                </a:solidFill>
                <a:latin typeface="Comic Sans MS"/>
              </a:rPr>
              <a:t> that  are </a:t>
            </a:r>
            <a:r>
              <a:rPr b="1" i="1" lang="en-US" sz="2400" spc="-1" strike="noStrike">
                <a:solidFill>
                  <a:srgbClr val="0000ff"/>
                </a:solidFill>
                <a:latin typeface="Comic Sans MS"/>
              </a:rPr>
              <a:t>Advantages</a:t>
            </a:r>
            <a:r>
              <a:rPr b="0" lang="en-US" sz="2400" spc="-1" strike="noStrike">
                <a:solidFill>
                  <a:srgbClr val="006699"/>
                </a:solidFill>
                <a:latin typeface="Comic Sans MS"/>
              </a:rPr>
              <a:t> and </a:t>
            </a:r>
            <a:r>
              <a:rPr b="1" lang="en-US" sz="2400" spc="-1" strike="noStrike">
                <a:solidFill>
                  <a:srgbClr val="0000ff"/>
                </a:solidFill>
                <a:latin typeface="Comic Sans MS"/>
              </a:rPr>
              <a:t>consequences</a:t>
            </a:r>
            <a:r>
              <a:rPr b="0" lang="en-US" sz="2400" spc="-1" strike="noStrike">
                <a:solidFill>
                  <a:srgbClr val="006699"/>
                </a:solidFill>
                <a:latin typeface="Comic Sans MS"/>
              </a:rPr>
              <a:t> that are </a:t>
            </a:r>
            <a:r>
              <a:rPr b="1" lang="en-US" sz="2400" spc="-1" strike="noStrike" u="sng">
                <a:solidFill>
                  <a:srgbClr val="0000ff"/>
                </a:solidFill>
                <a:uFillTx/>
                <a:latin typeface="Comic Sans MS"/>
              </a:rPr>
              <a:t>Dis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am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a:t>
            </a:r>
            <a:r>
              <a:rPr b="1" lang="en-US" sz="2400" spc="-1" strike="noStrike">
                <a:solidFill>
                  <a:srgbClr val="008000"/>
                </a:solidFill>
                <a:latin typeface="Comic Sans MS"/>
              </a:rPr>
              <a:t>I had run out of bread and milk,</a:t>
            </a:r>
            <a:r>
              <a:rPr b="1" lang="en-US" sz="2400" spc="-1" strike="noStrike">
                <a:solidFill>
                  <a:srgbClr val="ff0000"/>
                </a:solidFill>
                <a:latin typeface="Comic Sans MS"/>
              </a:rPr>
              <a:t> I went shopping in the supermarket</a:t>
            </a:r>
            <a:r>
              <a:rPr b="0" lang="en-US" sz="2400" spc="-1" strike="noStrike">
                <a:solidFill>
                  <a:srgbClr val="006699"/>
                </a:solidFill>
                <a:latin typeface="Comic Sans MS"/>
              </a:rPr>
              <a:t>. When I got there, </a:t>
            </a:r>
            <a:r>
              <a:rPr b="1" i="1" lang="en-US" sz="2400" spc="-1" strike="noStrike">
                <a:solidFill>
                  <a:srgbClr val="0000ff"/>
                </a:solidFill>
                <a:latin typeface="Comic Sans MS"/>
              </a:rPr>
              <a:t>I found</a:t>
            </a:r>
            <a:r>
              <a:rPr b="0" lang="en-US" sz="2400" spc="-1" strike="noStrike">
                <a:solidFill>
                  <a:srgbClr val="006699"/>
                </a:solidFill>
                <a:latin typeface="Comic Sans MS"/>
              </a:rPr>
              <a:t> </a:t>
            </a:r>
            <a:r>
              <a:rPr b="1" i="1" lang="en-US" sz="2400" spc="-1" strike="noStrike">
                <a:solidFill>
                  <a:srgbClr val="0000ff"/>
                </a:solidFill>
                <a:latin typeface="Comic Sans MS"/>
              </a:rPr>
              <a:t>there was an offer on the bread of 2 for one</a:t>
            </a:r>
            <a:r>
              <a:rPr b="0" lang="en-US" sz="2400" spc="-1" strike="noStrike">
                <a:solidFill>
                  <a:srgbClr val="006699"/>
                </a:solidFill>
                <a:latin typeface="Comic Sans MS"/>
              </a:rPr>
              <a:t>, so I thought I would put one in the freezer for later. On the way home </a:t>
            </a:r>
            <a:r>
              <a:rPr b="1" lang="en-US" sz="2400" spc="-1" strike="noStrike" u="sng">
                <a:solidFill>
                  <a:srgbClr val="0000ff"/>
                </a:solidFill>
                <a:uFillTx/>
                <a:latin typeface="Comic Sans MS"/>
              </a:rPr>
              <a:t>it started to rain so I got wet</a:t>
            </a:r>
            <a:r>
              <a:rPr b="0" lang="en-US" sz="2400" spc="-1" strike="noStrike">
                <a:solidFill>
                  <a:srgbClr val="006699"/>
                </a:solidFill>
                <a:latin typeface="Comic Sans MS"/>
              </a:rPr>
              <a:t>, as I had not brought an umbrella.</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 the ide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member you can use the little paintbrush on the icons at the top to copy the different colours, italics etc from my example onto you answ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8D962FB-21B7-42AA-B80E-C4ABF5CD827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think?</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at we call the places where a lot factories that used to be in Europe and America have gone to? They are all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an you think of the names of places that some of the things you buy have come from?</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 am going to put the countries on a map and then show it on the whiteboard – may take a moment or 2! I am using</a:t>
            </a:r>
            <a:endParaRPr b="0" lang="en-US" sz="2800" spc="-1" strike="noStrike">
              <a:solidFill>
                <a:srgbClr val="006699"/>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5"/>
              </a:rPr>
              <a:t>http://bighugelabs.com/flickr/map.php</a:t>
            </a:r>
            <a:r>
              <a:rPr b="0" lang="en-GB"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click on the countries and it colours them in</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then need to press ALT + PrtScn to save it into word and then trim off all the bits you don’t want using Picture toolbar – but it is a good way to get world locat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817F36B-8CE1-4974-B2C5-AF9484FB05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4 so-called Asian Tigers</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the name given to the industrialized economies of Hong Kong, South Korea, Singapore, and Taiwa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regions were noted for maintaining exceptionally high growth rates and rapid industrialization between the early 1960s and 1990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21st century, all four tigers became advanced economies and high-income econom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four Asian Tigers have a highly educated and skilled workforce and have specialized in areas where they do best.</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Hong Kong and Singapore became world leading international financial centres, while South Korea and Taiwan became world leaders in information technolog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81CDCBE-CBCA-431C-B208-DC97A3D39F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biggest Asian Tigers</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outh Korea, the largest of the Four Asian Tigers, became the only Tiger to become a High-income OECD member, join the G-20 major economies, and be listed among the Next Eleven countr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world's largest shipbuilder,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world's fifth largest carmaker, </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nd creating major global multinationals such as Samsung, LG and Hyundai-Kia.</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DF27F29-FB2F-420B-B3CB-43908AB06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rom this we can see South Korea has made it in!</a:t>
            </a:r>
            <a:endParaRPr b="0" lang="en-US" sz="3600" spc="-1" strike="noStrike">
              <a:solidFill>
                <a:srgbClr val="006666"/>
              </a:solidFill>
              <a:latin typeface="Comic Sans MS"/>
            </a:endParaRPr>
          </a:p>
        </p:txBody>
      </p:sp>
      <p:sp>
        <p:nvSpPr>
          <p:cNvPr id="17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look a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How do it go from being a poor country to a rich one so far</a:t>
            </a:r>
            <a:endParaRPr b="0" lang="en-US" sz="28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in other words</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were the causes of South Koreas rapid growth</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What were the results or consequences</a:t>
            </a:r>
            <a:endParaRPr b="0" lang="en-US" sz="28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th good and bad</a:t>
            </a:r>
            <a:endParaRPr b="0" lang="en-US" sz="2400" spc="-1" strike="noStrike">
              <a:solidFill>
                <a:srgbClr val="006699"/>
              </a:solidFill>
              <a:latin typeface="Comic Sans MS"/>
            </a:endParaRPr>
          </a:p>
          <a:p>
            <a:pPr lvl="1" marL="743040" indent="-285840">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lso in terms of the people, the economy and the environmen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49C02D1-AACA-4631-8BDA-2100C0BD9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uses and consequences</a:t>
            </a:r>
            <a:endParaRPr b="0" lang="en-US" sz="4000" spc="-1" strike="noStrike">
              <a:solidFill>
                <a:srgbClr val="006666"/>
              </a:solidFill>
              <a:latin typeface="Comic Sans MS"/>
            </a:endParaRPr>
          </a:p>
        </p:txBody>
      </p:sp>
      <p:pic>
        <p:nvPicPr>
          <p:cNvPr id="174" name="" descr=""/>
          <p:cNvPicPr/>
          <p:nvPr/>
        </p:nvPicPr>
        <p:blipFill>
          <a:blip r:embed="rId1"/>
          <a:stretch/>
        </p:blipFill>
        <p:spPr>
          <a:xfrm>
            <a:off x="2120760" y="2232000"/>
            <a:ext cx="5043600" cy="2349360"/>
          </a:xfrm>
          <a:prstGeom prst="rect">
            <a:avLst/>
          </a:prstGeom>
          <a:ln w="0">
            <a:noFill/>
          </a:ln>
        </p:spPr>
      </p:pic>
      <p:sp>
        <p:nvSpPr>
          <p:cNvPr id="175" name=""/>
          <p:cNvSpPr/>
          <p:nvPr/>
        </p:nvSpPr>
        <p:spPr>
          <a:xfrm>
            <a:off x="3132000" y="981000"/>
            <a:ext cx="251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This is where we are</a:t>
            </a:r>
            <a:endParaRPr b="0" lang="en-US" sz="2400" spc="-1" strike="noStrike">
              <a:solidFill>
                <a:srgbClr val="006699"/>
              </a:solidFill>
              <a:latin typeface="Arial"/>
            </a:endParaRPr>
          </a:p>
        </p:txBody>
      </p:sp>
      <p:sp>
        <p:nvSpPr>
          <p:cNvPr id="176" name=""/>
          <p:cNvSpPr/>
          <p:nvPr/>
        </p:nvSpPr>
        <p:spPr>
          <a:xfrm>
            <a:off x="1585800" y="2027160"/>
            <a:ext cx="2698920" cy="1762200"/>
          </a:xfrm>
          <a:custGeom>
            <a:avLst/>
            <a:gdLst/>
            <a:ahLst/>
            <a:rect l="l" t="t" r="r" b="b"/>
            <a:pathLst>
              <a:path w="1354" h="726">
                <a:moveTo>
                  <a:pt x="0" y="680"/>
                </a:moveTo>
                <a:cubicBezTo>
                  <a:pt x="69" y="726"/>
                  <a:pt x="142" y="697"/>
                  <a:pt x="229" y="694"/>
                </a:cubicBezTo>
                <a:cubicBezTo>
                  <a:pt x="303" y="675"/>
                  <a:pt x="216" y="701"/>
                  <a:pt x="278" y="673"/>
                </a:cubicBezTo>
                <a:cubicBezTo>
                  <a:pt x="291" y="667"/>
                  <a:pt x="320" y="659"/>
                  <a:pt x="320" y="659"/>
                </a:cubicBezTo>
                <a:cubicBezTo>
                  <a:pt x="348" y="631"/>
                  <a:pt x="379" y="619"/>
                  <a:pt x="410" y="597"/>
                </a:cubicBezTo>
                <a:cubicBezTo>
                  <a:pt x="460" y="562"/>
                  <a:pt x="505" y="520"/>
                  <a:pt x="556" y="486"/>
                </a:cubicBezTo>
                <a:cubicBezTo>
                  <a:pt x="585" y="467"/>
                  <a:pt x="600" y="434"/>
                  <a:pt x="632" y="423"/>
                </a:cubicBezTo>
                <a:cubicBezTo>
                  <a:pt x="654" y="402"/>
                  <a:pt x="686" y="357"/>
                  <a:pt x="715" y="347"/>
                </a:cubicBezTo>
                <a:cubicBezTo>
                  <a:pt x="743" y="309"/>
                  <a:pt x="749" y="322"/>
                  <a:pt x="785" y="298"/>
                </a:cubicBezTo>
                <a:cubicBezTo>
                  <a:pt x="801" y="275"/>
                  <a:pt x="816" y="259"/>
                  <a:pt x="840" y="243"/>
                </a:cubicBezTo>
                <a:cubicBezTo>
                  <a:pt x="868" y="200"/>
                  <a:pt x="915" y="167"/>
                  <a:pt x="958" y="139"/>
                </a:cubicBezTo>
                <a:cubicBezTo>
                  <a:pt x="998" y="112"/>
                  <a:pt x="1028" y="74"/>
                  <a:pt x="1076" y="62"/>
                </a:cubicBezTo>
                <a:cubicBezTo>
                  <a:pt x="1163" y="4"/>
                  <a:pt x="1250" y="0"/>
                  <a:pt x="1354" y="0"/>
                </a:cubicBezTo>
              </a:path>
            </a:pathLst>
          </a:custGeom>
          <a:noFill/>
          <a:ln w="57240">
            <a:solidFill>
              <a:srgbClr val="00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7" name=""/>
          <p:cNvSpPr/>
          <p:nvPr/>
        </p:nvSpPr>
        <p:spPr>
          <a:xfrm rot="19316400">
            <a:off x="906840" y="2420640"/>
            <a:ext cx="344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This how we got here</a:t>
            </a:r>
            <a:endParaRPr b="0" lang="en-US" sz="2000" spc="-1" strike="noStrike">
              <a:solidFill>
                <a:srgbClr val="006699"/>
              </a:solidFill>
              <a:latin typeface="Arial"/>
            </a:endParaRPr>
          </a:p>
        </p:txBody>
      </p:sp>
      <p:sp>
        <p:nvSpPr>
          <p:cNvPr id="178" name=""/>
          <p:cNvSpPr/>
          <p:nvPr/>
        </p:nvSpPr>
        <p:spPr>
          <a:xfrm>
            <a:off x="4500720" y="2205000"/>
            <a:ext cx="2376360" cy="1800360"/>
          </a:xfrm>
          <a:custGeom>
            <a:avLst/>
            <a:gdLst/>
            <a:ahLst/>
            <a:rect l="l" t="t" r="r" b="b"/>
            <a:pathLst>
              <a:path w="881" h="354">
                <a:moveTo>
                  <a:pt x="0" y="0"/>
                </a:moveTo>
                <a:cubicBezTo>
                  <a:pt x="126" y="25"/>
                  <a:pt x="247" y="61"/>
                  <a:pt x="375" y="77"/>
                </a:cubicBezTo>
                <a:cubicBezTo>
                  <a:pt x="416" y="104"/>
                  <a:pt x="479" y="110"/>
                  <a:pt x="528" y="118"/>
                </a:cubicBezTo>
                <a:cubicBezTo>
                  <a:pt x="558" y="128"/>
                  <a:pt x="580" y="143"/>
                  <a:pt x="611" y="153"/>
                </a:cubicBezTo>
                <a:cubicBezTo>
                  <a:pt x="618" y="155"/>
                  <a:pt x="632" y="160"/>
                  <a:pt x="632" y="160"/>
                </a:cubicBezTo>
                <a:cubicBezTo>
                  <a:pt x="660" y="180"/>
                  <a:pt x="676" y="213"/>
                  <a:pt x="708" y="222"/>
                </a:cubicBezTo>
                <a:cubicBezTo>
                  <a:pt x="736" y="250"/>
                  <a:pt x="778" y="273"/>
                  <a:pt x="812" y="299"/>
                </a:cubicBezTo>
                <a:cubicBezTo>
                  <a:pt x="825" y="309"/>
                  <a:pt x="854" y="327"/>
                  <a:pt x="854" y="327"/>
                </a:cubicBezTo>
                <a:cubicBezTo>
                  <a:pt x="871" y="351"/>
                  <a:pt x="861" y="343"/>
                  <a:pt x="881" y="354"/>
                </a:cubicBezTo>
              </a:path>
            </a:pathLst>
          </a:custGeom>
          <a:noFill/>
          <a:ln w="572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9" name=""/>
          <p:cNvSpPr/>
          <p:nvPr/>
        </p:nvSpPr>
        <p:spPr>
          <a:xfrm rot="2174400">
            <a:off x="4354920" y="2349000"/>
            <a:ext cx="396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This is what happened afterwards</a:t>
            </a:r>
            <a:endParaRPr b="0" lang="en-US" sz="2000" spc="-1" strike="noStrike">
              <a:solidFill>
                <a:srgbClr val="006699"/>
              </a:solidFill>
              <a:latin typeface="Arial"/>
            </a:endParaRPr>
          </a:p>
        </p:txBody>
      </p:sp>
      <p:sp>
        <p:nvSpPr>
          <p:cNvPr id="180" name=""/>
          <p:cNvSpPr/>
          <p:nvPr/>
        </p:nvSpPr>
        <p:spPr>
          <a:xfrm>
            <a:off x="611280" y="508464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CAUSES</a:t>
            </a:r>
            <a:endParaRPr b="0" lang="en-US" sz="2400" spc="-1" strike="noStrike">
              <a:solidFill>
                <a:srgbClr val="006699"/>
              </a:solidFill>
              <a:latin typeface="Arial"/>
            </a:endParaRPr>
          </a:p>
        </p:txBody>
      </p:sp>
      <p:sp>
        <p:nvSpPr>
          <p:cNvPr id="181" name=""/>
          <p:cNvSpPr/>
          <p:nvPr/>
        </p:nvSpPr>
        <p:spPr>
          <a:xfrm>
            <a:off x="4643280" y="5084640"/>
            <a:ext cx="331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CONSEQUENCES</a:t>
            </a:r>
            <a:endParaRPr b="0" lang="en-US" sz="2400" spc="-1" strike="noStrike">
              <a:solidFill>
                <a:srgbClr val="006699"/>
              </a:solidFill>
              <a:latin typeface="Arial"/>
            </a:endParaRPr>
          </a:p>
        </p:txBody>
      </p:sp>
      <p:sp>
        <p:nvSpPr>
          <p:cNvPr id="182" name=""/>
          <p:cNvSpPr/>
          <p:nvPr/>
        </p:nvSpPr>
        <p:spPr>
          <a:xfrm>
            <a:off x="4211640" y="59500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Advantages</a:t>
            </a:r>
            <a:endParaRPr b="0" lang="en-US" sz="2400" spc="-1" strike="noStrike">
              <a:solidFill>
                <a:srgbClr val="006699"/>
              </a:solidFill>
              <a:latin typeface="Arial"/>
            </a:endParaRPr>
          </a:p>
        </p:txBody>
      </p:sp>
      <p:sp>
        <p:nvSpPr>
          <p:cNvPr id="183" name=""/>
          <p:cNvSpPr/>
          <p:nvPr/>
        </p:nvSpPr>
        <p:spPr>
          <a:xfrm>
            <a:off x="6227640" y="5950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Disadvantages</a:t>
            </a:r>
            <a:endParaRPr b="0" lang="en-US" sz="2400" spc="-1" strike="noStrike">
              <a:solidFill>
                <a:srgbClr val="006699"/>
              </a:solidFill>
              <a:latin typeface="Arial"/>
            </a:endParaRPr>
          </a:p>
        </p:txBody>
      </p:sp>
      <p:sp>
        <p:nvSpPr>
          <p:cNvPr id="184" name=""/>
          <p:cNvSpPr/>
          <p:nvPr/>
        </p:nvSpPr>
        <p:spPr>
          <a:xfrm>
            <a:off x="2771640" y="508464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ACTION</a:t>
            </a:r>
            <a:endParaRPr b="0" lang="en-US" sz="2400" spc="-1" strike="noStrike">
              <a:solidFill>
                <a:srgbClr val="006699"/>
              </a:solidFill>
              <a:latin typeface="Arial"/>
            </a:endParaRPr>
          </a:p>
        </p:txBody>
      </p:sp>
      <p:sp>
        <p:nvSpPr>
          <p:cNvPr id="185" name=""/>
          <p:cNvSpPr/>
          <p:nvPr/>
        </p:nvSpPr>
        <p:spPr>
          <a:xfrm rot="6108600">
            <a:off x="4932360" y="5661000"/>
            <a:ext cx="503280" cy="217440"/>
          </a:xfrm>
          <a:prstGeom prst="rightArrow">
            <a:avLst>
              <a:gd name="adj1" fmla="val 50000"/>
              <a:gd name="adj2" fmla="val 57864"/>
            </a:avLst>
          </a:prstGeom>
          <a:solidFill>
            <a:srgbClr val="008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6" name=""/>
          <p:cNvSpPr/>
          <p:nvPr/>
        </p:nvSpPr>
        <p:spPr>
          <a:xfrm rot="3459000">
            <a:off x="6587640" y="5659560"/>
            <a:ext cx="503280" cy="217440"/>
          </a:xfrm>
          <a:prstGeom prst="rightArrow">
            <a:avLst>
              <a:gd name="adj1" fmla="val 50000"/>
              <a:gd name="adj2" fmla="val 57864"/>
            </a:avLst>
          </a:prstGeom>
          <a:solidFill>
            <a:srgbClr val="cc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6FB8602-4B40-4A01-93D9-C979691128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were the </a:t>
            </a:r>
            <a:r>
              <a:rPr b="1" lang="en-US" sz="3600" spc="-1" strike="noStrike">
                <a:solidFill>
                  <a:srgbClr val="cc0000"/>
                </a:solidFill>
                <a:latin typeface="Comic Sans MS"/>
              </a:rPr>
              <a:t>CAUSES</a:t>
            </a:r>
            <a:r>
              <a:rPr b="1" lang="en-US" sz="3600" spc="-1" strike="noStrike">
                <a:solidFill>
                  <a:srgbClr val="006666"/>
                </a:solidFill>
                <a:latin typeface="Comic Sans MS"/>
              </a:rPr>
              <a:t> of South Korea's rapid economic growth?</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88" name="PlaceHolder 2"/>
          <p:cNvSpPr>
            <a:spLocks noGrp="1"/>
          </p:cNvSpPr>
          <p:nvPr>
            <p:ph/>
          </p:nvPr>
        </p:nvSpPr>
        <p:spPr>
          <a:xfrm>
            <a:off x="250920" y="1198080"/>
            <a:ext cx="8642160" cy="5543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arly on, the government realised that  primary agricultural goods was no the route to economic grow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government invested in large companies such as the big steel works at Pohang Iron and Steel corpora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encouraged foreign investment e.g. from the USA </a:t>
            </a:r>
            <a:endParaRPr b="0" lang="en-US" sz="2800" spc="-1" strike="noStrike">
              <a:solidFill>
                <a:srgbClr val="006699"/>
              </a:solidFill>
              <a:latin typeface="Comic Sans MS"/>
            </a:endParaRPr>
          </a:p>
          <a:p>
            <a:pPr marL="343080" indent="-343080">
              <a:lnSpc>
                <a:spcPct val="80000"/>
              </a:lnSpc>
              <a:spcBef>
                <a:spcPts val="601"/>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reated a market for their own goods by imposing high import taxes on those from other countries. This allowed firms like Hyundai, Samsung and Daewoo to get a foothold in the local market and then to export their quality goods to other countries.</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8E8E86D-9449-4C58-80FC-CBC3642BB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were the </a:t>
            </a:r>
            <a:r>
              <a:rPr b="1" lang="en-US" sz="3600" spc="-1" strike="noStrike">
                <a:solidFill>
                  <a:srgbClr val="cc0000"/>
                </a:solidFill>
                <a:latin typeface="Comic Sans MS"/>
              </a:rPr>
              <a:t>CAUSES</a:t>
            </a:r>
            <a:r>
              <a:rPr b="1" lang="en-US" sz="3600" spc="-1" strike="noStrike">
                <a:solidFill>
                  <a:srgbClr val="006666"/>
                </a:solidFill>
                <a:latin typeface="Comic Sans MS"/>
              </a:rPr>
              <a:t> of South Korea's rapid economic growth?</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overnment instituted a high quality education program that means that their children are among the best in the world at maths and science</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overnment also developed its own research and development of hi-tech goo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rge TNCs (e.g. Sony from Japan) were attracted by low wages, low taxes and they also bought know-how to South Korea.</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dedicated and substantial workforce was available, willing to work long hours.</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rms were also attracted by a large consumer market of SE Asia (e.g. China)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B3106BD-DF7F-47B8-BA58-B16DF38C3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Comic Sans MS"/>
              </a:rPr>
              <a:t>ADVANTAGES OF RAPID INDUSTRIAL GROWTH:</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South Korea became very successful competing with MEDCs such as the U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i) More jobs were available, helping to reduce unemployment and with the rise in income, there was more money available in the country for buying consumer goods and helping to increase standards of liv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ii) The increase in purchase of consumer goods (e.g. cars / electrical goods), created more demand for the goods and therefore led to a further increase in the market</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v) More money was also available for leisure time (greater disposable income), resulting in a growth in the countries service sector</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80E2F75-5E11-492B-8146-E62B21FC8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2:04:50Z</dcterms:created>
  <dc:creator>Lindy</dc:creator>
  <dc:description/>
  <dc:language>en-US</dc:language>
  <cp:lastModifiedBy>Lindy</cp:lastModifiedBy>
  <dcterms:modified xsi:type="dcterms:W3CDTF">2009-03-07T16:39:58Z</dcterms:modified>
  <cp:revision>5</cp:revision>
  <dc:subject/>
  <dc:title>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